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F57-F5B5-478C-82D3-FD614083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616-93AD-42E9-8E55-B9F097AF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4D2-42C8-447C-81B2-2CA0DA66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F2F-EAAB-4364-BE10-A707A742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8B2-6C86-43F8-A5B4-DDF8BEC0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DD4F-D44B-4FE3-B9D1-FC9AF755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81A2-5BE7-476E-8411-45C3A959F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8D7-0F25-42EA-9E0A-E0BF2E0ED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6C5-E7C4-4814-89E4-A24999AE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7B5-0661-4009-92F9-0899E9603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F2BE-26B4-43B6-814B-86D2340F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286-A3F9-457E-97E6-A38D3BD4A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4C5-0DF4-4215-9576-803F0A1C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789-CC35-4FE9-ADAF-7C214081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738A-2E7A-477A-9782-47320F1D8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E282-4D95-4BD2-B5C7-1D5145AFD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2999-15FD-49C6-A612-09752AF8F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F73A-6A43-46DD-A10C-A88A00654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B9A94-1C52-4BFB-A54C-0BAE5DF5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558E1-5CD7-4805-9D96-58357D2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6550E-3D63-40F3-9CBD-E916504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DF324-D346-4380-9470-634251E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76D9B-0538-47A2-9386-89F84C1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92759-05F3-4FE6-A4FB-6E0A4104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9A8E-A2C8-45F5-9CCF-FBEEB58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BC31-A0AC-4541-8CD8-543190405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E83D-D76B-4391-8B07-57EE763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836E-C4D6-45BF-A5B8-11DE939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8FAC-42BC-4051-8445-FC9533F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34F05-8483-4317-B1B2-EE8448DA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4D137-A348-475D-B382-562A683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933A-DF06-4500-8B44-F777FA4C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7567-21F4-4ACE-A44A-9EFA2A84E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36E-9CD2-42EE-95ED-5A2CE7B03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583D-C0C0-46BF-AFC8-B2AE906EA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6502-4408-48A0-A7CA-18425AE49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F724-784E-4A74-9543-6E828E3A6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7A3C-4E35-4301-AE8C-B16781C72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3BCB22D6-29CF-4FB7-99A7-10C6C11459D2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404B-AA2C-45BC-8414-4C6F9E3647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9C0A79A3-A595-44B5-8537-3B0AF287AC84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Link Contro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2FDA78AC-120C-46B7-8493-78C18E9AF9B7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9320" y="4064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-2 Data Link Protoc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311040" y="1755720"/>
            <a:ext cx="85280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CB1528A0-67AD-48D4-B98A-E75A4954CBC0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30040" y="40644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-2   Data Link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15998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t us first assume we have an ideal channel in which no frames are lost, duplicated, or corrupted. We introduce two protocols for this type of chann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280" y="46800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mplest Protocol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top-and-Wait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6452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56C91623-1926-41EE-8A82-DD21BF5736A0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plest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flow or error contro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r can immediately handle any frame it receives,   process it and pass it to above laye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r can never be overwhelmed with incoming fra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ender sends a sequence of frames without even thinking about the receive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48769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5814B6CC-42EE-4532-A465-AE77A86F619D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-and-Wait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data frames arrive at the receiver site faster than they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n be processed, it needs to tell the sender to slow down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Stop-and-Wait Protocol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ender sends one frame, stops until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t receives </a:t>
            </a: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Acknowledgmen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Frame (</a:t>
            </a: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ACK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 from receiver, then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nder proceeds with sending next fr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1828800" y="3035160"/>
            <a:ext cx="4952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AD140AE0-F70D-45AF-A770-AD65D31C924F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Link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1219320"/>
            <a:ext cx="8610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Functions of the data link layer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rror Detection &amp; Correc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ata Link Contr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Design &amp; procedures for node-to-node communication (flow and error contro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edia Access Contr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How to share the lin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Data Link Control function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a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ocols implemented in software to provide smooth and reliable transmission of frames between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E0033527-C2F3-4A58-8253-1DD7E280A424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30760" y="40644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-1-1   FRA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662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data link layer packs bits int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ram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and adds sender and destination addresses to each frame so that each frame is distinguishable from anoth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04920" y="50482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ixed-Size Framing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Variable-Size Fra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3168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F53BE8E7-11AC-4B7F-9D2E-6A0BAE3C37F1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Fr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80880" y="1219320"/>
            <a:ext cx="8382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ames could be of fixed or variable s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ixed-size fram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there is no need to define boundaries of the frames, the size itself can be used as a delimiter. e.g. A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variable-size framing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discussed in this chapter), we need a way to define the end of the frame and the beginning of the next. Two approaches were used for this purpo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Character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Bit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525D0738-75CB-4D7B-89BE-F366D8F24CC5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57880" cy="993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-Oriented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to be carried are 8-bit characters from a coding system such as ASCI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la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an 8-bit that is added to the beginning and the end of a frame to separate it from next and previous fra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Head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a multiple of 8-bit characters that carries the source and destination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rail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also a multiple of 8-bit characters that carries error detection and correction redundant b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2FD63A66-0C28-46FB-905F-83A619B268A8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 Stuffing &amp; Unstuf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 order not to confuse a flag with a data character, Character Stuffing (or Byte Stuffing) is us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GB" sz="2200" spc="-1" strike="noStrike">
                <a:solidFill>
                  <a:srgbClr val="3333cc"/>
                </a:solidFill>
                <a:latin typeface="Tahoma"/>
              </a:rPr>
              <a:t>Character Stuffing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 a special character (ESC) is added to the data section of the frame when there is a character with the same pattern as the flag or the special charact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1320840" y="3301920"/>
            <a:ext cx="5867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1A0F9967-DDD4-4134-8D82-39617846060B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t-Oriented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section of a frame is a sequence of bits to be interpreted by the upper lay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la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a special 8-bit pattern 01111110 that is added to the beginning and the end of a frame to separate it from next and previous fra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Head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rail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re needed as in Character-Oriented Protoco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1111320" y="2079720"/>
            <a:ext cx="68007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C6206331-A966-4CA0-B279-5695F44974EB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t Stuffing &amp; Unstuf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80880" y="12193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it stuff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process of adding one extra 0 whenever five consecutive 1s follow a 0 in the data, so that the receiver does not mistake the pattern 0111110 for a fla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474920" y="2496960"/>
            <a:ext cx="577692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-763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.</a:t>
            </a:r>
            <a:fld id="{049157B6-30DF-4BAA-BF96-9E930B25BC35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31120" y="406440"/>
            <a:ext cx="75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-1-2   FLOW AND ERROR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04920" y="159516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most important responsibilities of the data link layer ar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low contro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rror contro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Collectively, these functions are known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link contro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28600" y="42102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low Control: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s to a set of procedures used to restrict 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amount of data that the sender can send  bef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waiting  for acknowledgment.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Error Control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control in the data link layer is base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Automatic Repeat Request (ARQ), whic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retransmission of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51560" y="35053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Farag</cp:lastModifiedBy>
  <dcterms:modified xsi:type="dcterms:W3CDTF">2016-12-15T05:16:58Z</dcterms:modified>
  <cp:revision>199</cp:revision>
  <dc:subject/>
  <dc:title>PowerPoint Presentation</dc:title>
</cp:coreProperties>
</file>