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D825-9A50-4495-950B-6E0803CF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1CB-AA19-43F7-92E9-4A44E1DF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05C-607E-4ADD-B43C-BC9F2617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EC4-03D7-4E5D-8C89-D59647CE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6DC-0519-4CD7-B036-047E0427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664-CC9D-4C75-8EAD-9241B456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61F-43E0-4CFC-AD82-EE17D79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ACB4-62FC-4DF6-8227-438D3D5B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8CAB-13C0-4A7C-ACE5-5A693204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1442-6664-439C-85E9-AD27A78C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89C-E7EE-49AE-8C3D-F05F082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30D-E184-45E1-9229-61FDAA9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9F04-E8C5-4D35-870C-95EE8B44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E3FA-5829-4B3E-8B9A-AFFCC1A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06C2-83AD-4156-A9D3-7BC3412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C136-D84D-4E0E-BC17-EA22F53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9DA-B890-4205-B3F6-5D31430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63E-E552-49B0-BDC8-9B6DB695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7F5-6610-4ACB-AB00-3A408D66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E611-2F3B-4F2D-8D23-DB96C5A6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732-01C5-4310-987F-B599685F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504-A174-4306-BEFD-7B263DB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B5E-7D6F-49DE-B260-6408DD6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C34-F4E8-49D6-9C84-CE57A5B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E1F-C971-417E-88C0-36E8667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B70-8F42-4E18-8BF7-0FB7B56935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fld id="{02179CCB-EB61-458E-8D12-2648191E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242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7BF9-E069-4FF2-8433-D7710907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9492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4/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8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133720" y="28335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Networ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2166840" y="4653000"/>
            <a:ext cx="51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slides are based 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2700360" y="4976640"/>
            <a:ext cx="61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pter 1, Data Communications and Networking,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d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281400" y="2052720"/>
            <a:ext cx="41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CS 34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damentals of Computer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8458200" y="25560"/>
            <a:ext cx="67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EB9CB180-AA47-4B4B-9E2B-C942F8178BC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389640" cy="2178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609480" y="1295280"/>
            <a:ext cx="815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Topology of a networ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the geometric representation of the relationship of all the links and linking devices (nodes) to one anoth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h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A97237C2-152E-4F63-86D1-AFF9F5A9DF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2971800" y="3886200"/>
            <a:ext cx="3429000" cy="25462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7"/>
          <p:cNvSpPr/>
          <p:nvPr/>
        </p:nvSpPr>
        <p:spPr>
          <a:xfrm>
            <a:off x="38088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very device has a dedicated point-to-point link to every other dev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dicated means that the link carries traffic only between the two devices it conn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v: Guaranteed load, robust, privacy or security, fault identification and fault isolation is easi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dv: amount of cabling, I/O ports, installation is difficult, more wiring w.r.t space, expensive hard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d at Backbone mos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C0ECA80-D90F-4544-A8D0-F57361F8C4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4076640" cy="21733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80880" y="1143000"/>
            <a:ext cx="8534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Each device has a dedicated pt-to-pt link only to a central controller [Hub]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No direct connection or traffic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Adv: less expensive, one link and one I/O port, easy to install and reconfigure, less cabling (but more than bus or ring), node failure will not affect others, fault identification is easi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Disadv: Single point of failur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83F3116D-D447-43BC-A45E-4CCA9411F90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7888320" cy="16682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304920" y="12193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oint: One cable acts as a backbone to link all the devices in a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rop line: a connection running between the device and main c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p: a connector that either splices into the main cable or punctures the sheathing of the cable to create a contact with the metallic c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gnal degrades due to energy being transformed into heat. So, there is limitation on the number of taps allow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v: easy to install, less cab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dv: Limit on number of taps and the distance between taps, difficult to identify fault, signal degradation, modification is diffic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ng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24AB9317-DA6F-4F7E-A880-8D9A8A9B22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5621040" cy="2025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9"/>
          <p:cNvSpPr/>
          <p:nvPr/>
        </p:nvSpPr>
        <p:spPr>
          <a:xfrm>
            <a:off x="380880" y="123192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ach device has a dedicated pt-to-pt connection only with the two devices on either side of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ach device incorporates a repe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n a device receives a signal intended for another device, its repeater regenerates the bits and passes them alo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v: Easy to install, fault isolation is easier, Signal circulates at all times (alarm alerts the problem and its loc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dv: Unidirectional traffic, in a simple ring; break in the ring can disable entir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systems have dual ring or switch capable of closing off the brea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EA18776-ED39-4E82-B0AC-104F8A6E870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"/>
          <p:cNvSpPr/>
          <p:nvPr/>
        </p:nvSpPr>
        <p:spPr>
          <a:xfrm>
            <a:off x="366480" y="579132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olated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F12D9A72-5D91-47B8-9D79-0D0162AC6DD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76920" y="56386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egories of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4CA6FA2C-D312-4142-BFA2-DEF4E813B2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96080" cy="18493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8"/>
          <p:cNvSpPr/>
          <p:nvPr/>
        </p:nvSpPr>
        <p:spPr>
          <a:xfrm>
            <a:off x="762120" y="4038480"/>
            <a:ext cx="272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tance it co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ysical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6AB3E8ED-4EE5-4979-AD35-7AE9B66E07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1"/>
          <a:stretch/>
        </p:blipFill>
        <p:spPr>
          <a:xfrm>
            <a:off x="2971800" y="4254480"/>
            <a:ext cx="3132000" cy="2151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8"/>
          <p:cNvSpPr/>
          <p:nvPr/>
        </p:nvSpPr>
        <p:spPr>
          <a:xfrm>
            <a:off x="685800" y="11304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vately ow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ks devices in single office, building or camp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mited to few kilomet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aring of resources: Hardware or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a single transmission 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pology: Ring, bus, st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DA055334-C9E0-458B-AD1F-D90D5D18C5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1"/>
          <a:stretch/>
        </p:blipFill>
        <p:spPr>
          <a:xfrm>
            <a:off x="1246320" y="1295280"/>
            <a:ext cx="66513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Data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tocols and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2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FC5C37FD-0880-4787-BAA7-2297842F787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1C0ACFA-4774-464F-B2FB-A0E42410790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477120" cy="34495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"/>
          <p:cNvSpPr/>
          <p:nvPr/>
        </p:nvSpPr>
        <p:spPr>
          <a:xfrm>
            <a:off x="1828800" y="5181480"/>
            <a:ext cx="586728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tend over an entire c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wned and operated by a private compan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rvice provi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D328F396-A99E-4F6F-A9C7-B6C772525B9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1219320" y="2679840"/>
            <a:ext cx="6600600" cy="23889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8"/>
          <p:cNvSpPr/>
          <p:nvPr/>
        </p:nvSpPr>
        <p:spPr>
          <a:xfrm>
            <a:off x="380880" y="1155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vides long-transmission of data, voice, image and video information over large geographic areas that may comprise a country, a continent or even the whole wor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838080" y="542304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N that is wholly owned and used by a single company is often referred to as an enterpris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ed WAN and point-to-point 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57F5B2B-6A6C-49CA-82E6-D2B689CEA64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2560" y="594360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6807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genous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61F9A2B3-3AEF-4B11-A1CF-C2D0EF42053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40760" y="60958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B88735A1-20C2-4F00-89CA-28A867D773B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04920" y="181116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of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0F53173B-F933-4828-9974-5F3E9D3ADBA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80360" y="632448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s and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8534520" y="25560"/>
            <a:ext cx="59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BC90E5A-4FC4-4C78-86ED-C1CDDDD306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04920" y="193356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this section, we define two widely used terms: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rotocol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tandard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First, we define protocol, which is synonymous with rule. Then we discuss standards, which are agreed-upon ru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s and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8458200" y="25560"/>
            <a:ext cx="67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5039965B-3DA5-4F23-98CB-12A40DFD488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0880" y="129528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Protoc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of rules that governs data commun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tabLst>
                <a:tab algn="l" pos="0"/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tabLst>
                <a:tab algn="l" pos="0"/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tocol defines what is communicated, how it is communicated and when it is communic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tabLst>
                <a:tab algn="l" pos="0"/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t refers to the structure or format of da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t refers to the meaning of each section of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Ti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t refers to two characteristics; when and how much to s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Stand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vide guidelines to manufactur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tabLst>
                <a:tab algn="l" pos="0"/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facto [by fact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28600">
              <a:lnSpc>
                <a:spcPct val="100000"/>
              </a:lnSpc>
              <a:tabLst>
                <a:tab algn="l" pos="0"/>
                <a:tab algn="l" pos="29196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jure [by law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1"/>
          <p:cNvSpPr/>
          <p:nvPr/>
        </p:nvSpPr>
        <p:spPr>
          <a:xfrm>
            <a:off x="8458200" y="25560"/>
            <a:ext cx="67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2105C676-F1AB-417C-B630-4C9B552F2ED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5335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Organization for Standardization (I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Telecommunication Union- Telecommunication Standards (ITU-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n National Standards Institute (ANS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itute of Electrical and Electronics Engineers (IEE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Industries Association (E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Engineering Task Force (IE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Standards and Draf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8458200" y="25560"/>
            <a:ext cx="67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1A4E56FB-2BF5-4A62-BE7F-0670E6C87B8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609480" y="1219320"/>
            <a:ext cx="8153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ahoma"/>
              </a:rPr>
              <a:t>Internet Standa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roughly tested specification that is useful to and adhered to by those who work with 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ct procedure and must be follow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ahoma"/>
              </a:rPr>
              <a:t>Internet draf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document with no official status and 6-month life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on recommendation from Internet authorities, can be published as a RFC [With number and made available to all interested parties.] RFC has maturity levels and are categorized according to their requirement lev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3A22D77D-2A5C-4D5D-B7F9-A5076CB6979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62120" y="1674000"/>
            <a:ext cx="71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The e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mportant to do at home 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- read chapter 1 of the text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ve Components of Data Communic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996C6E21-2C1A-446D-A92B-C162FED227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66080" cy="1825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609480" y="3352680"/>
            <a:ext cx="81536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ssage: Data to be communi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der &amp; Rece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dium: Transmission medium is the physical path by which a message travels from sender to rece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wisted-pair, coaxial cable, fiber optic cable or radio wav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ocol: Set of rules that govern data commun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ness of Data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B1B614B6-0B1A-469A-AA9C-CB30E823762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609480" y="1371600"/>
            <a:ext cx="8153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Depends upon four fundamental characteristics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ahoma"/>
              </a:rPr>
              <a:t>Deliver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Deliver data to the correct destin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ahoma"/>
              </a:rPr>
              <a:t>Accurac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Deliver the data accur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ahoma"/>
              </a:rPr>
              <a:t>Timeline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Deliver data in a timely manner. Real-time transmission requires timely delivery [without significant delay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ahoma"/>
              </a:rPr>
              <a:t>Jitt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Variations in packet arriv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2EDA8DB3-4014-42E8-932C-CE6C7D22734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365400" y="62485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BDD8E727-A85F-4859-98A6-F7C5DB97E6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04920" y="19638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ransit and response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 time is the amount of time required for a message to travel from one devic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e time is the elapsed time between an inquiry and a respon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upon number of users, type of transmission medium, capabilities of hardware, efficiency of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10000"/>
              </a:lnSpc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Measured by the frequency of failure, the time it takes a link to recover from a failure, and the network’s robustness in catastrop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tecting data from unauthorized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4370A31F-F4C1-4336-9BA5-2C9EC0DB5BF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077320" y="3049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fld id="{601DB7F1-C02D-49F3-B491-6A2A13EE586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68320" y="59436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fazzedin</cp:lastModifiedBy>
  <dcterms:modified xsi:type="dcterms:W3CDTF">2014-09-06T17:17:18Z</dcterms:modified>
  <cp:revision>178</cp:revision>
  <dc:subject/>
  <dc:title>PowerPoint Presentation</dc:title>
</cp:coreProperties>
</file>