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AC6-24BA-4FBF-BB93-CA53477FD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011C-977C-40AB-A632-A0670A03C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#</a:t>
            </a:r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D72C-85E8-4EAC-B2C9-E16C6FC9E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FC5C-63CD-4C5D-9E8B-A23A2E0E8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CEDA-A7BB-46AC-A9DC-D86714ABA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ABBF-3DBF-44CB-9ADC-165DF2A6D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B8FF9-7E37-4CF8-A1D5-61BB53E2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A44BD-3557-430C-A28D-2B6C8383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6BA3E-3042-4FB8-9EEF-ECBADA1A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5D8A1-6C97-4056-ABD2-1082554C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16E10-1973-4070-AB0E-354FDF99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8A560-D2A1-46CD-AFCC-91B8502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76DBA-FA9A-4CCD-8BD5-CDB650D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A08F-C815-4C63-8516-D7F5E0CDE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FD3C7-6303-4066-AFAA-A767515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0A689-ED7D-40D1-92D5-0B40637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181AF-28EF-49ED-B4CA-4E1F1684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A3F8-9FD1-4B33-B53F-6C4E5FB8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A7DF4-2F1B-4860-B5F8-C7EEECAD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D8A9-A987-428E-8394-030326295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3122-147C-463D-90B3-EBF946D35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83EC-BDB6-4C5E-9809-A53910F6E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3697-0E4A-4AFF-A63C-E865AE115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F7F9-83FD-4F68-8116-F5F5093E0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000B-06A8-409F-9729-F094FFE7F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C127-5219-4A4E-888C-0EBF844D1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7C9A69CD-DD03-449E-A921-704969CCC7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3200" spc="-1" strike="noStrike">
                  <a:solidFill>
                    <a:srgbClr val="000000"/>
                  </a:solidFill>
                  <a:latin typeface="Baby Kruffy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Baby Kruffy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Baby Kruffy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Baby Kruffy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i="1" lang="en-US" sz="14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i="1" lang="en-US" sz="14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CE8E-CF48-4320-90A2-66E5CF99E7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brandinglogo"/>
          <p:cNvPicPr/>
          <p:nvPr/>
        </p:nvPicPr>
        <p:blipFill>
          <a:blip r:embed="rId1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87200" y="1523880"/>
            <a:ext cx="41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Chapter 9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4470120" cy="5765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80880" y="2590920"/>
            <a:ext cx="373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Introduction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To 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Data-Link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Layer</a:t>
            </a:r>
            <a:endParaRPr b="1" i="1" lang="en-US" sz="48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0" y="660384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McGraw-Hill Companies, Inc. Permission required for reproduction or display.</a:t>
            </a:r>
            <a:endParaRPr b="1" i="1" lang="en-US" sz="10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E8876D02-4AF7-43ED-BC25-EEE5185ED8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144800" y="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9.2.2   ARP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80880" y="1293840"/>
            <a:ext cx="792504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ytime a node has an IP datagram to send to another node in a link, it has the IP address of the receiving node. However, the IP address of the next node is not helpful in moving a frame through a link; we need the link-layer address of the next node. This is the time when the Address Resolution Protocol (ARP) becomes helpful.</a:t>
            </a:r>
            <a:endParaRPr b="1" i="1" lang="en-US" sz="28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D028B359-98FA-436B-942E-D333659E0E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6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Position of ARP in TCP/IP protocol suite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743040" y="2452680"/>
            <a:ext cx="6953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4619302C-61EE-43CA-9EC6-6AF8FFE9CF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7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ARP operation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77720" y="762120"/>
            <a:ext cx="7890120" cy="27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465120" y="3809880"/>
            <a:ext cx="79167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0235298B-93B6-4E0F-9D9A-703D9179FB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8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ARP packet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934920" y="2239920"/>
            <a:ext cx="7066080" cy="4008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2779560" y="1219320"/>
            <a:ext cx="3849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868D61BA-2BCF-4F14-905E-C231F693FE5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10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The internet for our example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5344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59B6F96E-A24F-48F9-9DD5-DF33012B7D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11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Flow of packets at Alice site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534440" cy="139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6995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46BD0C96-C536-4DC9-AEE8-58661D41E8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12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Flow of activities at router R1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60320" y="2355840"/>
            <a:ext cx="7088400" cy="389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609480" y="887400"/>
            <a:ext cx="75344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DF1BFB7C-EFF4-49B9-8DBA-E166D62392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13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Flow of activities at router R2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95160" y="963720"/>
            <a:ext cx="7534440" cy="139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371600" y="2306520"/>
            <a:ext cx="7093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CA5A14AB-AEA7-43AD-A9C8-5B921DA3CE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14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Activities at Bob’s site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609480" y="887400"/>
            <a:ext cx="7534440" cy="139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32241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1089000" y="-7632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pter 9: Outline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152280" y="1523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9.1 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NTRODUCTION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152280" y="29718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9.2 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LINK-LAYER ADDRESSING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1090440" y="-7632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pter 9: Objective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8" name="Rectangle 31"/>
          <p:cNvSpPr/>
          <p:nvPr/>
        </p:nvSpPr>
        <p:spPr>
          <a:xfrm>
            <a:off x="152280" y="1447920"/>
            <a:ext cx="8991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aby Kruffy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aby Kruffy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2193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The first section introduces the data-link layer. It starts with defining the concept of links and nodes. The section then lists and briefly describes the services provided by the data-link layer. It next defines two categories of links: point-to-point and broadcast links. The section finally defines two sub-layers at the data-link layer that will be elaborated on in the next few chapters. </a:t>
            </a:r>
            <a:endParaRPr b="1" i="1" lang="en-US" sz="24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632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The second section discusses link-layer addressing. It first explains the rationale behind the existence of an addressing mechanism at the data-link layer. It then describes three types of link-layer addresses. The section discusses the Address Resolution Protocol (ARP), which maps the addresses at the network layer to addresses at the data-link layer. </a:t>
            </a:r>
            <a:endParaRPr b="1" i="1" lang="en-US" sz="24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71C6046A-3231-43CD-BA93-6806C8762A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1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Communication at the data-link layer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1557360" y="838080"/>
            <a:ext cx="5160960" cy="548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848040" y="1447920"/>
            <a:ext cx="21718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BA2A41A8-651F-46A1-8641-1EB6136AE2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2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Nodes and Links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17600" y="1959120"/>
            <a:ext cx="83088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77C91440-87EA-4702-81A0-33A139BA62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144440" y="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9.9.4  Two Sublayers</a:t>
            </a:r>
            <a:endParaRPr b="1" i="1" lang="en-US" sz="36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80880" y="1293840"/>
            <a:ext cx="79250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better understand the functionality of and the services provided by the link layer, we can divide the data-link layer into two sublayers: data link control (DLC) and media access control (MAC). This is not unusual because, as we will see in later chapters, LAN protocols actually use the same strategy. </a:t>
            </a:r>
            <a:endParaRPr b="1" i="1" lang="en-US" sz="28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875C502A-93A8-4064-A9E6-77F0A780F9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152280" y="133920"/>
            <a:ext cx="815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3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Dividing the data-link layer into two sublayers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04920" y="984240"/>
            <a:ext cx="4741920" cy="2443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474192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5F2532B3-5621-4F42-9E6E-71841D59C4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5360" y="406440"/>
            <a:ext cx="63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  LINK-LAYER ADDRESSING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0880" y="176544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s discussed in Chapter 18, IP addresses as the identifiers at the network layer. However, in a internetwork such as the Internet we cannot make a datagram reach its destination using only IP addresses. The source and destination IP addresses define the two ends but cannot define which links the packet  should pass through.</a:t>
            </a:r>
            <a:endParaRPr b="1" i="1" lang="en-US" sz="3200" spc="-1" strike="noStrike">
              <a:solidFill>
                <a:srgbClr val="000000"/>
              </a:solidFill>
              <a:latin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fld id="{28181CFD-782B-48B8-A973-98C8467FD2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aby Kruffy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52280" y="133920"/>
            <a:ext cx="8839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-BoldItalic"/>
              </a:rPr>
              <a:t>Figure 9.5:  </a:t>
            </a:r>
            <a:r>
              <a:rPr b="1" i="1" lang="en-US" sz="2000" spc="-1" strike="noStrike">
                <a:solidFill>
                  <a:srgbClr val="000000"/>
                </a:solidFill>
                <a:latin typeface="Times-BoldItalic"/>
              </a:rPr>
              <a:t>IP addresses and link-layer addresses in a small internet</a:t>
            </a:r>
            <a:endParaRPr b="1" i="1" lang="en-US" sz="2000" spc="-1" strike="noStrike">
              <a:solidFill>
                <a:srgbClr val="000000"/>
              </a:solidFill>
              <a:latin typeface="Baby Kruffy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174080" cy="5718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2085840" y="5168880"/>
            <a:ext cx="2562480" cy="681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7877160" y="2590920"/>
            <a:ext cx="690480" cy="2560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4"/>
          <a:stretch/>
        </p:blipFill>
        <p:spPr>
          <a:xfrm>
            <a:off x="2009880" y="1676520"/>
            <a:ext cx="256212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Dr.Farag</cp:lastModifiedBy>
  <dcterms:modified xsi:type="dcterms:W3CDTF">2016-12-11T05:58:32Z</dcterms:modified>
  <cp:revision>490</cp:revision>
  <dc:subject/>
  <dc:title>PowerPoint Presentation</dc:title>
</cp:coreProperties>
</file>