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.jpeg" ContentType="image/jpeg"/>
  <Override PartName="/ppt/media/image38.png" ContentType="image/png"/>
  <Override PartName="/ppt/media/image39.png" ContentType="image/png"/>
  <Override PartName="/ppt/media/image12.png" ContentType="image/png"/>
  <Override PartName="/ppt/media/image7.wmf" ContentType="image/x-wmf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7.png" ContentType="image/png"/>
  <Override PartName="/ppt/media/image14.png" ContentType="image/png"/>
  <Override PartName="/ppt/media/image41.png" ContentType="image/png"/>
  <Override PartName="/ppt/media/image9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71AB-2BA5-4A62-B33D-AAB533D8A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39F1-1A7D-4F52-B9A3-C741571B7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F17B-74FC-429E-89B9-FAA47D067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F7FF-098D-48B6-939F-363343E34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92C7-9914-4D48-92E6-229C90967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636F-4C39-4227-A202-24E2D8C46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3E044-1CD2-4F8F-A61D-AA9BBC56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9CFCD-0151-4DBB-96B1-02058D33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34FF4-119B-45DF-A53B-8A97BF12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B53EA-B780-41D5-92C3-5FCFFB83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9BB2A-3E39-4E2A-8DBA-E933FFD5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07001-6EE8-4844-AB08-0C30877A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A966C-9A24-4727-AFF8-4933A0D7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F0CC-0DFA-4ACD-AA25-141A87D85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B93C3-CCF6-40B5-BC6B-C0B49656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26327-9A36-40C2-AAB6-82F991B7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42EAE-2BB4-40B9-8408-440FAB78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BED48-BF0A-464E-8E51-2D222B64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42023-1B21-44F9-86FB-1781FB8B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93FA-929A-4747-A75B-8FA0FEA9B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3695-B786-4D47-8275-CB5498171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D4FF-924A-47F9-B0EF-C5B0E74A9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816F-8AD3-4FFD-BAB9-805916391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EA80-6C6B-467F-B1E6-1D19B9ECF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95BF-9DC3-4323-A256-01BB928C5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821B-0DC9-45AD-A760-B73F81371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7F5A8D00-4D0D-417A-B29B-9112BA56D8F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200" spc="-1" strike="noStrike">
                  <a:solidFill>
                    <a:srgbClr val="000000"/>
                  </a:solidFill>
                  <a:latin typeface="Baby Kruffy"/>
                </a:endParaRPr>
              </a:p>
            </p:txBody>
          </p:sp>
          <p:sp>
            <p:nvSpPr>
              <p:cNvPr id="4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200" spc="-1" strike="noStrike">
                  <a:solidFill>
                    <a:srgbClr val="000000"/>
                  </a:solidFill>
                  <a:latin typeface="Baby Kruffy"/>
                </a:endParaRPr>
              </a:p>
            </p:txBody>
          </p:sp>
        </p:grpSp>
        <p:grpSp>
          <p:nvGrpSpPr>
            <p:cNvPr id="4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4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200" spc="-1" strike="noStrike">
                  <a:solidFill>
                    <a:srgbClr val="000000"/>
                  </a:solidFill>
                  <a:latin typeface="Baby Kruffy"/>
                </a:endParaRPr>
              </a:p>
            </p:txBody>
          </p:sp>
          <p:sp>
            <p:nvSpPr>
              <p:cNvPr id="4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200" spc="-1" strike="noStrike">
                  <a:solidFill>
                    <a:srgbClr val="000000"/>
                  </a:solidFill>
                  <a:latin typeface="Baby Kruffy"/>
                </a:endParaRPr>
              </a:p>
            </p:txBody>
          </p:sp>
        </p:grpSp>
        <p:sp>
          <p:nvSpPr>
            <p:cNvPr id="4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200" spc="-1" strike="noStrike">
                <a:solidFill>
                  <a:srgbClr val="000000"/>
                </a:solidFill>
                <a:latin typeface="Baby Kruffy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200" spc="-1" strike="noStrike">
                <a:solidFill>
                  <a:srgbClr val="000000"/>
                </a:solidFill>
                <a:latin typeface="Baby Kruffy"/>
              </a:endParaRPr>
            </a:p>
          </p:txBody>
        </p:sp>
        <p:sp>
          <p:nvSpPr>
            <p:cNvPr id="4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i="1" lang="en-US" sz="3200" spc="-1" strike="noStrike">
                <a:solidFill>
                  <a:srgbClr val="000000"/>
                </a:solidFill>
                <a:latin typeface="Baby Kruffy"/>
              </a:endParaRPr>
            </a:p>
          </p:txBody>
        </p:sp>
      </p:grpSp>
      <p:sp>
        <p:nvSpPr>
          <p:cNvPr id="47" name="Text Box 17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1" i="1" lang="en-US" sz="14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1" i="1" lang="en-US" sz="14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2A79-2D13-4DFC-BA98-00DD5AC7C5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Baby Kruff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brandinglogo"/>
          <p:cNvPicPr/>
          <p:nvPr/>
        </p:nvPicPr>
        <p:blipFill>
          <a:blip r:embed="rId1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187200" y="1219320"/>
            <a:ext cx="415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Arial"/>
              </a:rPr>
              <a:t>Chapter 17</a:t>
            </a:r>
            <a:endParaRPr b="1" i="1" lang="en-US" sz="48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4419720" y="762120"/>
            <a:ext cx="4470120" cy="5765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228600" y="2286000"/>
            <a:ext cx="3962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060"/>
                </a:solidFill>
                <a:latin typeface="Times New Roman"/>
                <a:ea typeface="Arial"/>
              </a:rPr>
              <a:t>Connecting </a:t>
            </a:r>
            <a:endParaRPr b="1" i="1" lang="en-US" sz="4800" spc="-1" strike="noStrike">
              <a:solidFill>
                <a:srgbClr val="000000"/>
              </a:solidFill>
              <a:latin typeface="Baby Kruff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060"/>
                </a:solidFill>
                <a:latin typeface="Times New Roman"/>
                <a:ea typeface="Arial"/>
              </a:rPr>
              <a:t>Devices</a:t>
            </a:r>
            <a:endParaRPr b="1" i="1" lang="en-US" sz="4800" spc="-1" strike="noStrike">
              <a:solidFill>
                <a:srgbClr val="000000"/>
              </a:solidFill>
              <a:latin typeface="Baby Kruff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060"/>
                </a:solidFill>
                <a:latin typeface="Times New Roman"/>
                <a:ea typeface="Arial"/>
              </a:rPr>
              <a:t>And</a:t>
            </a:r>
            <a:endParaRPr b="1" i="1" lang="en-US" sz="4800" spc="-1" strike="noStrike">
              <a:solidFill>
                <a:srgbClr val="000000"/>
              </a:solidFill>
              <a:latin typeface="Baby Kruff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060"/>
                </a:solidFill>
                <a:latin typeface="Times New Roman"/>
                <a:ea typeface="Arial"/>
              </a:rPr>
              <a:t>Virtual</a:t>
            </a:r>
            <a:endParaRPr b="1" i="1" lang="en-US" sz="4800" spc="-1" strike="noStrike">
              <a:solidFill>
                <a:srgbClr val="000000"/>
              </a:solidFill>
              <a:latin typeface="Baby Kruff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060"/>
                </a:solidFill>
                <a:latin typeface="Times New Roman"/>
                <a:ea typeface="Arial"/>
              </a:rPr>
              <a:t>LANs</a:t>
            </a:r>
            <a:endParaRPr b="1" i="1" lang="en-US" sz="48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0" y="6603840"/>
            <a:ext cx="9144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e McGraw-Hill Companies, Inc. Permission required for reproduction or display.</a:t>
            </a:r>
            <a:endParaRPr b="1" i="1" lang="en-US" sz="1000" spc="-1" strike="noStrike">
              <a:solidFill>
                <a:srgbClr val="000000"/>
              </a:solidFill>
              <a:latin typeface="Baby Kruff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15BCBCC3-0A08-4A2D-A5AB-59171DB98D0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152280" y="133920"/>
            <a:ext cx="815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17.4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Learning switch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638280" y="4073400"/>
            <a:ext cx="7862760" cy="2022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1295280" y="1322280"/>
            <a:ext cx="1873440" cy="465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3"/>
          <a:stretch/>
        </p:blipFill>
        <p:spPr>
          <a:xfrm>
            <a:off x="3429000" y="1103400"/>
            <a:ext cx="1898640" cy="699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4"/>
          <a:stretch/>
        </p:blipFill>
        <p:spPr>
          <a:xfrm>
            <a:off x="5715000" y="984240"/>
            <a:ext cx="1898640" cy="914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5"/>
          <a:stretch/>
        </p:blipFill>
        <p:spPr>
          <a:xfrm>
            <a:off x="1911240" y="2263680"/>
            <a:ext cx="1898640" cy="1089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6"/>
          <a:stretch/>
        </p:blipFill>
        <p:spPr>
          <a:xfrm>
            <a:off x="4414680" y="2057400"/>
            <a:ext cx="1898640" cy="130644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"/>
          <p:cNvGrpSpPr/>
          <p:nvPr/>
        </p:nvGrpSpPr>
        <p:grpSpPr>
          <a:xfrm>
            <a:off x="995400" y="762120"/>
            <a:ext cx="6853320" cy="3124080"/>
            <a:chOff x="995400" y="762120"/>
            <a:chExt cx="6853320" cy="3124080"/>
          </a:xfrm>
        </p:grpSpPr>
        <p:pic>
          <p:nvPicPr>
            <p:cNvPr id="176" name="Picture 7" descr=""/>
            <p:cNvPicPr/>
            <p:nvPr/>
          </p:nvPicPr>
          <p:blipFill>
            <a:blip r:embed="rId7"/>
            <a:stretch/>
          </p:blipFill>
          <p:spPr>
            <a:xfrm>
              <a:off x="3166200" y="3615480"/>
              <a:ext cx="2634120" cy="27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9" descr=""/>
            <p:cNvPicPr/>
            <p:nvPr/>
          </p:nvPicPr>
          <p:blipFill>
            <a:blip r:embed="rId8"/>
            <a:stretch/>
          </p:blipFill>
          <p:spPr>
            <a:xfrm>
              <a:off x="995400" y="762120"/>
              <a:ext cx="6853320" cy="278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0C9DA6B7-D38A-483E-AA24-07FCB62BDDA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114480" y="133920"/>
            <a:ext cx="815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17.5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Loop problem in a learning switch (Part a)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447920" y="1635120"/>
            <a:ext cx="5676840" cy="4689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1901880" y="914400"/>
            <a:ext cx="476892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E9E0395C-1E8E-41C2-BF0E-EDF5AA165E3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114480" y="133920"/>
            <a:ext cx="815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17.5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Loop problem in a learning switch (Part b)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676520" y="1711440"/>
            <a:ext cx="5676840" cy="4689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2330280" y="990720"/>
            <a:ext cx="436896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A44B6475-F16C-4A60-BD9D-BE76071781D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14480" y="133920"/>
            <a:ext cx="815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17.5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Loop problem in a learning switch (Part c)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295280" y="1711440"/>
            <a:ext cx="5677200" cy="468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1949400" y="1033560"/>
            <a:ext cx="436896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1615EDEB-4BBC-4C1B-A1D4-1582641E502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91" name="Rectangle 14"/>
          <p:cNvSpPr/>
          <p:nvPr/>
        </p:nvSpPr>
        <p:spPr>
          <a:xfrm>
            <a:off x="114480" y="133920"/>
            <a:ext cx="815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17.5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Loop problem in a learning switch (part d)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447920" y="1473120"/>
            <a:ext cx="5676840" cy="5232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2101680" y="858960"/>
            <a:ext cx="436896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A1DC62C2-9B3E-4FAF-BEA9-57A395F82BA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114480" y="133920"/>
            <a:ext cx="815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17.6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A system of connected LANs and its graph (Part a)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457200" y="1851120"/>
            <a:ext cx="830736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A5FFB232-A59D-455C-B56E-4CA0A50A9BD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114480" y="133920"/>
            <a:ext cx="815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17.6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A system of connected LANs and its graph (Part b)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95168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CAE59D09-C0DF-4261-8535-EED2ECCD250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114480" y="-18360"/>
            <a:ext cx="8153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17.7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Finding the shortest path and the spanning tree for a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                      switch.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90600" y="2060640"/>
            <a:ext cx="79912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53AFF1E9-3ED9-41DE-BCB8-2FE83BA6591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114480" y="-18360"/>
            <a:ext cx="8153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17.8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Forwarding and blocking ports after using spanning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         tree algorithm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417600" y="1523880"/>
            <a:ext cx="830736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A1743C22-33C0-444B-A1CB-484DF60A497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1107720" y="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17.17.3  Routers</a:t>
            </a:r>
            <a:endParaRPr b="1" i="1" lang="en-US" sz="36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380880" y="1293840"/>
            <a:ext cx="792504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e will discuss routers in Part IV of the book when we discuss the network layer. In this section, we mention routers to compare them with a two-layer switch and a hub. A router is a three-layer device; it operates in the physical, data-link, and network layers.</a:t>
            </a:r>
            <a:endParaRPr b="1" i="1" lang="en-US" sz="2800" spc="-1" strike="noStrike">
              <a:solidFill>
                <a:srgbClr val="000000"/>
              </a:solidFill>
              <a:latin typeface="Baby Kruff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1089720" y="-763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pter 17: Outline</a:t>
            </a:r>
            <a:endParaRPr b="1" i="1" lang="en-US" sz="36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08" name="Rectangle 31"/>
          <p:cNvSpPr/>
          <p:nvPr/>
        </p:nvSpPr>
        <p:spPr>
          <a:xfrm>
            <a:off x="380880" y="156204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17.1 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CONNECTING DEVICES</a:t>
            </a: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09" name="Rectangle 31"/>
          <p:cNvSpPr/>
          <p:nvPr/>
        </p:nvSpPr>
        <p:spPr>
          <a:xfrm>
            <a:off x="380880" y="2552760"/>
            <a:ext cx="845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17.2 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VIRTUAL LANS</a:t>
            </a: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172333C2-3FE5-4571-98F1-D3B792553EC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152280" y="133920"/>
            <a:ext cx="815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17.9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Routing example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59456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E1AC5139-5231-43A2-B2D8-1B66DBDC471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6440" y="406440"/>
            <a:ext cx="43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-2   VIRTUAL LANS</a:t>
            </a: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482760" y="1587600"/>
            <a:ext cx="8153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station is considered part of a LAN if it physically belongs to that LAN. The criterion of membership is geographic. What happens if we need a virtual connection between two stations belonging to two different physical LANs? We can roughly define a virtual local area network (VLAN) as a local area network configured by software, not by physical wiring.</a:t>
            </a: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FAD28C9F-AFD1-41E8-B755-9A0CEF8C287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152280" y="133920"/>
            <a:ext cx="815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17.10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A switch connecting three LANs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404640" y="2133720"/>
            <a:ext cx="83552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F03B5788-8ADF-457D-BD09-DBBE193ABF0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152280" y="133920"/>
            <a:ext cx="815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17.11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A switch using VLAN software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407880" y="2057400"/>
            <a:ext cx="84312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41557C9C-D904-43BD-A686-EE00A9F5D94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31" name="Rectangle 14"/>
          <p:cNvSpPr/>
          <p:nvPr/>
        </p:nvSpPr>
        <p:spPr>
          <a:xfrm>
            <a:off x="152280" y="133920"/>
            <a:ext cx="815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17.12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Two switches in a backbone using VLAN software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504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2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1090800" y="-76320"/>
            <a:ext cx="48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pter 17: Objective</a:t>
            </a:r>
            <a:endParaRPr b="1" i="1" lang="en-US" sz="36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28600" y="1371600"/>
            <a:ext cx="8686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The first section discusses connecting devices. It first describes hubs and their features. The section then discusses link-layer switches (or simply switches, as they are called), and shows how they can create loops if they connect LANs with broadcast domains.</a:t>
            </a:r>
            <a:endParaRPr b="1" i="1" lang="en-US" sz="24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28600" y="3581280"/>
            <a:ext cx="8686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The second section discusses virtual LANs or VLANs. The section first shows how membership in a VLAN can be defined. The section then discusses the VLAN configuration. It next shows how switches can communicate in a VLAN. Finally, the section mentions the advantages of a VLAN..</a:t>
            </a:r>
            <a:endParaRPr b="1" i="1" lang="en-US" sz="2400" spc="-1" strike="noStrike">
              <a:solidFill>
                <a:srgbClr val="000000"/>
              </a:solidFill>
              <a:latin typeface="Baby Kruffy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582078C7-F764-4E8B-A936-9D652591D67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53440" y="406440"/>
            <a:ext cx="605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-1   CONNECTING  DEVICES</a:t>
            </a: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0880" y="1765440"/>
            <a:ext cx="8153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sts and networks do not normally operate in isolation. We use connecting devices to connect hosts together to make a network or to connect networks together to make an internet. Connecting devices can operate in different layers of the Internet model. We discuss three kinds of connecting devices: hubs, link-layer switches, and routers.  </a:t>
            </a: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3F78D277-F629-4D63-92F8-F2044E99108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114480" y="133920"/>
            <a:ext cx="815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17.1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Three  categories of connecting devices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1555920" cy="242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6750000" y="2590920"/>
            <a:ext cx="1555920" cy="2428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3"/>
          <a:stretch/>
        </p:blipFill>
        <p:spPr>
          <a:xfrm>
            <a:off x="2624040" y="3595680"/>
            <a:ext cx="366732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6C3E2BAD-0809-4011-B11C-1EF5EB5B6BB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107720" y="0"/>
            <a:ext cx="27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17.17.1  Hubs</a:t>
            </a:r>
            <a:endParaRPr b="1" i="1" lang="en-US" sz="36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380880" y="1293840"/>
            <a:ext cx="792504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hub is a device that operates only in the physical layer. Signals that carry information within a network can travel a fixed distance before attenuation endangers the integrity of the data. A repeater receives a signal and, before it becomes too weak or corrupted, regenerates and retimes the original bit pattern.</a:t>
            </a:r>
            <a:endParaRPr b="1" i="1" lang="en-US" sz="2800" spc="-1" strike="noStrike">
              <a:solidFill>
                <a:srgbClr val="000000"/>
              </a:solidFill>
              <a:latin typeface="Baby Kruff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84A1C4EB-EC81-4EC0-8B74-70174B2111C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114480" y="133920"/>
            <a:ext cx="815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17.2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Hub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596880" y="1549440"/>
            <a:ext cx="7778880" cy="2592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614520" y="1752480"/>
            <a:ext cx="3119400" cy="893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3017880" y="2209680"/>
            <a:ext cx="1279440" cy="1273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4405320" y="2209680"/>
            <a:ext cx="1463760" cy="1273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5"/>
          <a:stretch/>
        </p:blipFill>
        <p:spPr>
          <a:xfrm>
            <a:off x="4924440" y="2209680"/>
            <a:ext cx="2847960" cy="909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6"/>
          <a:stretch/>
        </p:blipFill>
        <p:spPr>
          <a:xfrm>
            <a:off x="201600" y="2541600"/>
            <a:ext cx="412920" cy="249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7"/>
          <a:stretch/>
        </p:blipFill>
        <p:spPr>
          <a:xfrm>
            <a:off x="3014640" y="3495600"/>
            <a:ext cx="1071720" cy="247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8"/>
          <a:stretch/>
        </p:blipFill>
        <p:spPr>
          <a:xfrm>
            <a:off x="4667400" y="3495600"/>
            <a:ext cx="939600" cy="247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9"/>
          <a:stretch/>
        </p:blipFill>
        <p:spPr>
          <a:xfrm>
            <a:off x="6629400" y="2995560"/>
            <a:ext cx="94140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357FB596-AB2C-45ED-8DED-B1768A915AE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109160" y="0"/>
            <a:ext cx="56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17.17.2  Link-Layer Switches</a:t>
            </a:r>
            <a:endParaRPr b="1" i="1" lang="en-US" sz="36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380880" y="1293840"/>
            <a:ext cx="792504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link-layer switch (or switch) operates in both the physical and the data-link layers. As a physical-layer device, it regenerates the signal it receives. As a link-layer device, the link-layer switch can check the MAC addresses (source and destination) contained</a:t>
            </a:r>
            <a:endParaRPr b="1" i="1" lang="en-US" sz="2800" spc="-1" strike="noStrike">
              <a:solidFill>
                <a:srgbClr val="000000"/>
              </a:solidFill>
              <a:latin typeface="Baby Kruffy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the frame.</a:t>
            </a:r>
            <a:endParaRPr b="1" i="1" lang="en-US" sz="2800" spc="-1" strike="noStrike">
              <a:solidFill>
                <a:srgbClr val="000000"/>
              </a:solidFill>
              <a:latin typeface="Baby Kruff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</a:t>
            </a:r>
            <a:fld id="{6AFCBE16-88E2-4400-B52B-F5700D02A56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52280" y="133920"/>
            <a:ext cx="815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17.3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Link-Layer Switch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895480" y="1246320"/>
            <a:ext cx="2324160" cy="167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44600" y="3257640"/>
            <a:ext cx="7480080" cy="2182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1066680" y="3537000"/>
            <a:ext cx="2428920" cy="1035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4"/>
          <a:stretch/>
        </p:blipFill>
        <p:spPr>
          <a:xfrm>
            <a:off x="2895480" y="3962520"/>
            <a:ext cx="128268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Dr.Farag</cp:lastModifiedBy>
  <dcterms:modified xsi:type="dcterms:W3CDTF">2016-12-25T05:41:53Z</dcterms:modified>
  <cp:revision>481</cp:revision>
  <dc:subject/>
  <dc:title>PowerPoint Presentation</dc:title>
</cp:coreProperties>
</file>